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266-2873-4FC4-AE6D-D98DA420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564-C8B0-4834-B48B-4EC0FD8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14D-3ACA-4E3F-A43A-856F3823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81F-984C-4487-950F-3A54ECEA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102-B105-4715-9467-9D0FA0EA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52C8-21DC-41D8-A925-4682B66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441-387C-4686-8466-CEA2DC68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D339-4E80-4F86-8258-A9C40C88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A06-E02A-4E55-8F5B-7BA9338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2F25-FE0F-4266-A529-4619D9B2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92E0-515E-42B2-83B4-77CCFF0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328-613C-49AB-AAEF-5696102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EB3B-CFF6-46FB-9F4A-103D321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22F-6EA4-45A1-93D9-E5FDF7C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479-D4D4-486B-BFBF-D235A86C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8286-00C4-4055-AA89-CDA0557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6B28-F346-4A06-BFED-85CDDDF7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AAC-D252-4403-8EC8-B045308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521-FCAD-400B-9204-FDCE68F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133-DD8B-440D-AA79-5B39A67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B11-CC89-462B-8280-C526D62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12E-B2BD-4E34-9A4D-32D1B10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605-9E34-4C81-BBD9-B541071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BE2-8B2A-493C-B828-F840931C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587-D6EF-4677-9A87-82DC2B7CD72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801C-E33F-4090-97BC-96795F412FB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Unit 14 Mainly revis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9295b"/>
                </a:solidFill>
                <a:latin typeface="Arial"/>
              </a:rPr>
              <a:t>Lesson 5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ook Tw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elp oneself to sth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句型用于主人招待客人时，意为：别客气，随便吃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……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你应邀参加宴会时，主人会对你说这样的话。意思是让你随便吃饭和菜，有对也表示随便取某物。此句型是一句常用的客套语。主人请客人不必拘束或客气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跟在家一样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lp yourself to some chicken, Jim. – Yes, I will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piece of cake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两层意思，其一是“一块蛋糕”；其二是“小菜一碟”，言外之意是“小事情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E.g. –I’m not sure how to do this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It’s a piece of cake, let me show you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t a part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聚会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day (adj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天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常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 day (n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一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Part 3 Practi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Useful expressions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ay I hav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uld you pass m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 some dumpl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ould you lik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just a litt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one more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No, thank you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80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38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9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5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401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401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0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602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602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3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903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903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2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103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103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1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203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203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0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104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04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70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97520" y="836640"/>
            <a:ext cx="1014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词填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vegetable sandwiches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lp_________ (yourself, yourselves), childre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e had some noodles ____ (for, with) supp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boy ___ (in, on) the right looks lik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r Wang’s so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chicken is more delicious. Do you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__________(some, any)more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iss Gao teaches her students 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nglish __________.(everyday,every day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773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8640" y="2262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33415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6880" y="4781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9240" y="52293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6520" y="5661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Rewrite the drills without changing their meaning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How delicious the food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__ ______ it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We need two more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need ________ ______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What’s the price of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 ______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We all enjoyed ourselves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all ______ ______ ______ ______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Don’t forget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2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7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7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720" y="228600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ch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3680" y="4289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715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Recite the dialogues in the text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 Make his own dialogue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Finish off the workbook exercis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appy New Year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391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61800" y="895320"/>
            <a:ext cx="1010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汉语完成句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uld you like some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葡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ren? They’re quite swee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Mother bought two _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西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th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n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She never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e usually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鸭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 swim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t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’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. Could you passs me some 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饺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5640" y="12826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rape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6720" y="22827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termelon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6160" y="3284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37958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720" y="4227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48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5360" y="5157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mpling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rcRect l="8009" t="17613" r="33488" b="22018"/>
          <a:stretch/>
        </p:blipFill>
        <p:spPr>
          <a:xfrm>
            <a:off x="0" y="5911920"/>
            <a:ext cx="1224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08360" y="2708280"/>
            <a:ext cx="2057400" cy="142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2120" y="7315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324000" y="249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2133720" cy="16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81476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1476360" y="49417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Revision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Revise </a:t>
            </a:r>
            <a:r>
              <a:rPr b="0" i="1" lang="zh-CN" sz="3200" spc="-1" strike="noStrike">
                <a:solidFill>
                  <a:srgbClr val="9900ff"/>
                </a:solidFill>
                <a:latin typeface="Arial"/>
              </a:rPr>
              <a:t>Shopping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1814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286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264492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17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19400"/>
            <a:ext cx="896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Un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cken, fish, rice, bread, beef, duck,tofu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s, grapes, melons, cakes, dumplings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3276720" cy="230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304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9144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0600" y="105264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1 Pract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isten and answ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Why does Ann want more me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When are Ann and her mother going to buy more food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What did Ann’s mother buy this morning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What else do they want to buy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1080" y="110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0800" y="2633760"/>
            <a:ext cx="62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en people are coming for dinner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41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        bou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to d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sth f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e for dinn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.g.  Would you like another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= Would you like one more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3716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2 Practi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334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5560" y="105264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4005360"/>
            <a:ext cx="107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440" y="1700280"/>
            <a:ext cx="114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07664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5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5440" y="5157720"/>
            <a:ext cx="132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5157720"/>
            <a:ext cx="155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0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24632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04:39Z</dcterms:created>
  <dc:creator>chenhuaxiu</dc:creator>
  <dc:description/>
  <dc:language>en-US</dc:language>
  <cp:lastModifiedBy>lingao</cp:lastModifiedBy>
  <dcterms:modified xsi:type="dcterms:W3CDTF">2005-12-21T03:13:06Z</dcterms:modified>
  <cp:revision>46</cp:revision>
  <dc:subject/>
  <dc:title>Unit 14 Mainly revision  Lesson 55  Book Two</dc:title>
</cp:coreProperties>
</file>